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B8F3-EBC2-4B41-853F-AE42CB8C99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s born Cassius Clay in 1942 in Louisiana, US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ook up boxing after a police officer found him fuming at the loss of his stolen bike, and advised him to let off steam constructive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was born Cassius Clay in 1942 in Louisiana,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ok up boxing after a police officer found him fuming at the loss of his stolen bike, and advised him to let off steam constru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you dream of beating me, you better wake up and apolog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dream of beating me, you better wake up and apolog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64, Cassius Clay changed his name to Muhammad Ali. ‘Cassius Clay is a slave name. I didn’t choose it and I don’t want it. I am Muhammad Ali, a free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What’s my name, fool? What’s my name?’ Ali to Ernie Terrell during their 1967 fight. Terrell had refused to call him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4, Cassius Clay changed his name to Muhammad Ali. ‘Cassius Clay is a slave name. I didn’t choose it and I don’t want it. I am Muhammad Ali, a fre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s my name, fool? What’s my name?’ Ali to Ernie Terrell during their 1967 fight. Terrell had refused to call him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ting people because of their colour is wrong, and it doesn’t matter which colour does the hating. It’s just plain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ting people because of their colour is wrong, and it doesn’t matter which colour does the hating. It’s just plai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ervice to others is the rent you pay for your room here on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rvice to others is the rent you pay for your room her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again ‘shook up the world,’ ‘dancing’ around Foreman until the champion was exhausted. Then Ali moved in and stopped Foreman for a sensational knock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legendary status was now assured. He fought again, and retained the World Heavyweight Title more than any other champion in boxing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again ‘shook up the world,’ ‘dancing’ around Foreman until the champion was exhausted. Then Ali moved in and stopped Foreman for a sensational kno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legendary status was now assured. He fought again, and retained the World Heavyweight Title more than any other champion in boxing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84, Ali was diagnosed with Parkinson’s disease. The symptoms include tremors, a tightening of the muscles, and slowness of movement and spee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watch these clips of him fighting, and see for yourselves what all the fuss was ab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li was diagnosed with Parkinson’s disease. The symptoms include tremors, a tightening of the muscles, and slowness of movement and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atch these clips of him fighting, and see for yourselves what all the fuss wa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63C68-192D-409D-8E5E-630CC4F64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DD1A7-78BD-4E4B-8145-36B648E38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9EE08-51F7-4CC9-BF61-7FD31EA15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34789-89CC-4FF7-81B2-8DCA712E3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D6ADE-4E22-49CC-A868-FD9C29D8E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5F8BB-C824-4D30-83E8-B78AF46D2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4B2AF-86D4-4074-BBAC-B9844295E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6369F-96D5-4940-8538-8A1931EF5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3ADAD-BFFC-43D3-9902-C5E03B848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14326-8327-4A34-8EEC-3A7FC118E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EC1DF-1A2A-4B1B-A150-69F84CCFE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320D1-C227-4595-AEBB-385F983D6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23777-8D5B-4A11-A5A7-CCF1055AE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E13B6-3857-4720-9DAE-9C1760F6A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E6BFC-03C8-4DB5-979A-EB25559A9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F6853-BFA5-4590-BCCD-10AED524E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C2652-A409-4566-9133-1A5798688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1739F-0608-407D-B6E3-A7E37A896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93D37-C6ED-49A6-953E-47893EC8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D6B34-E1E7-42A4-BD64-4AE1B39FE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C8F6B-4434-4AF9-A0F5-513DE7EAD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C3C6-C43F-4CE2-AD0F-7C26DB318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90191-A993-424B-9A04-389D14D6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160C8-A20C-4F44-AE78-9C92A9AF5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4373-9A7D-4461-8820-5A167D37B9B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855D-BEB7-415A-B0B4-5AFD31D1C27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Muhammad Ali</a:t>
            </a:r>
            <a:endParaRPr b="0" lang="en-US" sz="4800" spc="-1" strike="noStrike">
              <a:solidFill>
                <a:srgbClr val="b2b2b2"/>
              </a:solidFill>
              <a:latin typeface="Arial"/>
            </a:endParaRPr>
          </a:p>
        </p:txBody>
      </p:sp>
      <p:sp>
        <p:nvSpPr>
          <p:cNvPr id="106" name="PlaceHolder 2"/>
          <p:cNvSpPr>
            <a:spLocks noGrp="1"/>
          </p:cNvSpPr>
          <p:nvPr>
            <p:ph type="subTitle"/>
          </p:nvPr>
        </p:nvSpPr>
        <p:spPr>
          <a:xfrm>
            <a:off x="0" y="155736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was born </a:t>
            </a:r>
            <a:r>
              <a:rPr b="1" i="1" lang="en-GB" sz="1800" spc="-1" strike="noStrike">
                <a:solidFill>
                  <a:srgbClr val="ffffff"/>
                </a:solidFill>
                <a:latin typeface="Arial"/>
              </a:rPr>
              <a:t>Cassius Clay</a:t>
            </a:r>
            <a:r>
              <a:rPr b="1" lang="en-GB" sz="1800" spc="-1" strike="noStrike">
                <a:solidFill>
                  <a:srgbClr val="ffffff"/>
                </a:solidFill>
                <a:latin typeface="Arial"/>
              </a:rPr>
              <a:t> in 1942 in Louisiana, USA.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took up boxing after a police officer found him fuming at the loss of his stolen bike, and advised him to let off steam constructively.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5" descr="040_SP0052~Muhammad-Ali-Posters"/>
          <p:cNvPicPr/>
          <p:nvPr/>
        </p:nvPicPr>
        <p:blipFill>
          <a:blip r:embed="rId1"/>
          <a:stretch/>
        </p:blipFill>
        <p:spPr>
          <a:xfrm>
            <a:off x="6372360" y="1628640"/>
            <a:ext cx="2600280" cy="39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you dream of beating me, you better wake up and apologi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2000" spc="-1" strike="noStrike">
              <a:solidFill>
                <a:srgbClr val="ffffff"/>
              </a:solidFill>
              <a:latin typeface="Arial"/>
            </a:endParaRPr>
          </a:p>
        </p:txBody>
      </p:sp>
      <p:pic>
        <p:nvPicPr>
          <p:cNvPr id="110" name="Picture 5" descr="Muhammad-Ali-Boxing"/>
          <p:cNvPicPr/>
          <p:nvPr/>
        </p:nvPicPr>
        <p:blipFill>
          <a:blip r:embed="rId1"/>
          <a:stretch/>
        </p:blipFill>
        <p:spPr>
          <a:xfrm>
            <a:off x="2700360" y="39337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2"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64, Cassius Clay changed his name to Muhammad Ali. </a:t>
            </a:r>
            <a:r>
              <a:rPr b="1" i="1" lang="en-GB" sz="1800" spc="-1" strike="noStrike">
                <a:solidFill>
                  <a:srgbClr val="ffffff"/>
                </a:solidFill>
                <a:latin typeface="Arial"/>
              </a:rPr>
              <a:t>‘Cassius Clay is a slave name. I didn’t choose it and I don’t want it. I am Muhammad Ali, a free man…’</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What’s my name, fool? What’s my name?’</a:t>
            </a:r>
            <a:r>
              <a:rPr b="1" lang="en-GB" sz="1800" spc="-1" strike="noStrike">
                <a:solidFill>
                  <a:srgbClr val="ffffff"/>
                </a:solidFill>
                <a:latin typeface="Arial"/>
              </a:rPr>
              <a:t> Ali to Ernie Terrell during their 1967 fight. Terrell had refused to call him Ali.</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a:t>
            </a:r>
            <a:r>
              <a:rPr b="1" i="1" lang="en-GB" sz="1800" spc="-1" strike="noStrike">
                <a:solidFill>
                  <a:srgbClr val="ffffff"/>
                </a:solidFill>
                <a:latin typeface="Arial"/>
              </a:rPr>
              <a:t>‘I ain’t got no quarrel with them Vietcong. They never called me a nigg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5" descr="muhammed_ali"/>
          <p:cNvPicPr/>
          <p:nvPr/>
        </p:nvPicPr>
        <p:blipFill>
          <a:blip r:embed="rId1"/>
          <a:stretch/>
        </p:blipFill>
        <p:spPr>
          <a:xfrm>
            <a:off x="2771640" y="4076640"/>
            <a:ext cx="3591000" cy="24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5" name="PlaceHolder 2"/>
          <p:cNvSpPr>
            <a:spLocks noGrp="1"/>
          </p:cNvSpPr>
          <p:nvPr>
            <p:ph/>
          </p:nvPr>
        </p:nvSpPr>
        <p:spPr>
          <a:xfrm>
            <a:off x="0" y="105228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Hating people because of their colour is wrong, and it doesn’t matter which colour does the hating. It’s just plain wrong.’</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returned to boxing in 1970. The 70s were perhaps Ali’s most famous years. He fought Joe Frazier </a:t>
            </a:r>
            <a:r>
              <a:rPr b="1" i="1" lang="en-GB" sz="1800" spc="-1" strike="noStrike">
                <a:solidFill>
                  <a:srgbClr val="ffffff"/>
                </a:solidFill>
                <a:latin typeface="Arial"/>
              </a:rPr>
              <a:t>(‘Frazier is so ugly that when he cries, the tears turn around and go down the back of his head’)</a:t>
            </a:r>
            <a:r>
              <a:rPr b="1" lang="en-GB" sz="1800" spc="-1" strike="noStrike">
                <a:solidFill>
                  <a:srgbClr val="ffffff"/>
                </a:solidFill>
                <a:latin typeface="Arial"/>
              </a:rPr>
              <a:t> in the so-called ‘Fight of the Century’ in Madison Square Garden. Frazier won, though Ali was to beat him in two further bouts, one of which, the ‘Thrilla in Manila’, went 15 rounds. Afterwards, Ali was to say that he had experienced ‘what death feels like.’</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a:t>
            </a:r>
            <a:r>
              <a:rPr b="1" lang="en-GB" sz="1800" spc="-1" strike="noStrike" baseline="30000">
                <a:solidFill>
                  <a:srgbClr val="ffffff"/>
                </a:solidFill>
                <a:latin typeface="Arial"/>
              </a:rPr>
              <a:t>nd</a:t>
            </a:r>
            <a:r>
              <a:rPr b="1" lang="en-GB" sz="1800" spc="-1" strike="noStrike">
                <a:solidFill>
                  <a:srgbClr val="ffffff"/>
                </a:solidFill>
                <a:latin typeface="Arial"/>
              </a:rPr>
              <a:t> roun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Picture 7" descr="_40466243_ali_foreman_2_300"/>
          <p:cNvPicPr/>
          <p:nvPr/>
        </p:nvPicPr>
        <p:blipFill>
          <a:blip r:embed="rId1"/>
          <a:stretch/>
        </p:blipFill>
        <p:spPr>
          <a:xfrm>
            <a:off x="4572000" y="5224320"/>
            <a:ext cx="1633680" cy="1633680"/>
          </a:xfrm>
          <a:prstGeom prst="rect">
            <a:avLst/>
          </a:prstGeom>
          <a:ln w="0">
            <a:noFill/>
          </a:ln>
        </p:spPr>
      </p:pic>
      <p:pic>
        <p:nvPicPr>
          <p:cNvPr id="117" name="Picture 9" descr="_40466243_ali_foreman_2_300"/>
          <p:cNvPicPr/>
          <p:nvPr/>
        </p:nvPicPr>
        <p:blipFill>
          <a:blip r:embed="rId2"/>
          <a:stretch/>
        </p:blipFill>
        <p:spPr>
          <a:xfrm>
            <a:off x="6443640" y="51768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2b2b2"/>
                </a:solidFill>
                <a:latin typeface="Arial"/>
              </a:rPr>
              <a:t>‘</a:t>
            </a:r>
            <a:r>
              <a:rPr b="1" i="1" lang="en-GB" sz="4000" spc="-1" strike="noStrike">
                <a:solidFill>
                  <a:srgbClr val="b2b2b2"/>
                </a:solidFill>
                <a:latin typeface="Arial"/>
              </a:rPr>
              <a:t>Service to others is the rent you pay for your room here on earth.’</a:t>
            </a:r>
            <a:endParaRPr b="0" lang="en-US" sz="4000" spc="-1" strike="noStrike">
              <a:solidFill>
                <a:srgbClr val="b2b2b2"/>
              </a:solidFill>
              <a:latin typeface="Arial"/>
            </a:endParaRPr>
          </a:p>
        </p:txBody>
      </p:sp>
      <p:pic>
        <p:nvPicPr>
          <p:cNvPr id="119" name="Picture 4" descr="zaire"/>
          <p:cNvPicPr/>
          <p:nvPr/>
        </p:nvPicPr>
        <p:blipFill>
          <a:blip r:embed="rId1"/>
          <a:stretch/>
        </p:blipFill>
        <p:spPr>
          <a:xfrm>
            <a:off x="2124000" y="1628640"/>
            <a:ext cx="511344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again ‘shook up the world,’ ‘dancing’ around Foreman until the champion was exhausted. Then Ali moved in and stopped Foreman for a sensational knockou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legendary status was now assured. He fought again, and retained the World Heavyweight Title more than any other champion in boxing histor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5" descr="ali-foreman"/>
          <p:cNvPicPr/>
          <p:nvPr/>
        </p:nvPicPr>
        <p:blipFill>
          <a:blip r:embed="rId1"/>
          <a:stretch/>
        </p:blipFill>
        <p:spPr>
          <a:xfrm>
            <a:off x="3132000" y="3645000"/>
            <a:ext cx="3024360" cy="297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4"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84, Ali was diagnosed with Parkinson’s disease. The symptoms include tremors, a tightening of the muscles, and slowness of movement and speech.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w watch these clips of him fighting, and see for yourselves what all the fuss was about!</a:t>
            </a:r>
            <a:endParaRPr b="0" lang="en-US" sz="1800" spc="-1" strike="noStrike">
              <a:solidFill>
                <a:srgbClr val="ffffff"/>
              </a:solidFill>
              <a:latin typeface="Arial"/>
            </a:endParaRPr>
          </a:p>
        </p:txBody>
      </p:sp>
      <p:pic>
        <p:nvPicPr>
          <p:cNvPr id="125" name="Picture 5" descr="ali_muhammad1"/>
          <p:cNvPicPr/>
          <p:nvPr/>
        </p:nvPicPr>
        <p:blipFill>
          <a:blip r:embed="rId1"/>
          <a:stretch/>
        </p:blipFill>
        <p:spPr>
          <a:xfrm>
            <a:off x="7667640" y="115920"/>
            <a:ext cx="12384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8:06:37Z</dcterms:created>
  <dc:creator>Telford</dc:creator>
  <dc:description/>
  <dc:language>en-US</dc:language>
  <cp:lastModifiedBy>RomaK</cp:lastModifiedBy>
  <dcterms:modified xsi:type="dcterms:W3CDTF">2015-09-02T09:55:04Z</dcterms:modified>
  <cp:revision>8</cp:revision>
  <dc:subject/>
  <dc:title>Muhammad Ali</dc:title>
</cp:coreProperties>
</file>